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9146-B988-4139-AEAF-B7AC1B3358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9293-15E3-4F45-807D-DE75D1C7DC8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ADE0-971A-4960-83F4-2AE057F9B4E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D7AC-3D08-49FE-A74B-E4A85F237FD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68C9-711A-4813-9141-E5B1F76139B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E806-AA3D-4AC1-B1B3-B7638929EA5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04E3-9C66-4C43-8689-C298A43C09E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99D4-F9C0-4DD8-806A-D965FE45119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32FF-9242-4DC3-B518-132E4623E5F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2C96-67B2-4D98-8C04-FC40E9CA4E7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FA8E-03F5-4FAC-8BAB-4D84295CC7B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6709-FA5B-4F0F-BC9D-4AB34A1A3BE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4174-3196-42BC-A841-47BD6DB7FE1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4CE1-5147-434E-974F-D0D44901791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6181-EA04-4D16-9596-CF1842037CE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B0ED-F990-42A7-9CA5-D8A310640AB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E968-DF05-4F46-8BA1-BDDE00195F5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03AB-1FDC-4CB3-BD19-90F0C1396CF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223D-4A1D-4969-AF1C-27B1CE5CF49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E9BE-58CF-4797-9AE6-364867F340D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C86-6174-4E85-AFFB-8672935E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C31-1ACD-4BE1-B14E-BD4E1E41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25F-9269-4FB6-AFE7-44545B47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95B-1F2C-4F05-B63B-9647F53F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DBDD4-5478-4ADD-B1E9-AD170710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8ACDE-E403-4BD9-B612-4C349D2C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8C921-DA54-47BE-970B-6A5B2DDA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7E5FD-065A-4FAA-B4FB-E8B1F432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15D43-F87A-4B18-BE9B-0A8A9893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39913-4239-4C62-B3E1-7D36FCA8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65904-7873-4A76-B60B-65DCBBA1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D14-EB13-4E48-ABA8-65620762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791E0-E774-4ABA-B4F1-57FD807E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61DE7-112A-4E42-9161-C96A926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02D47-345E-4EB3-B538-B5133EC8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866F2-4D0C-4A06-98F6-6AC42E8B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CB403-CA4D-44B1-83E8-18E37362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927-744C-4A4F-880D-E6C8A0ED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371-9F29-4A97-8B8A-BC624DE3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18F-8FCB-4E6D-A8AD-886285F1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28D-1C8C-4F70-B5B1-811980B2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250-8B6F-4FFA-A82B-06F5FEF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DE5-F9B4-4DA1-A84C-C07540F5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F71-1922-4183-AB1E-F5B5F1B8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8B51-0BC8-4F33-9C2A-1DFD0614F0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BE95-1E45-4D62-B4C6-6EB118FB797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co.uk/imgres?imgurl=http://www.scit.wlv.ac.uk/~jphb/canada/pictures/lake.peyto.1.gif&amp;imgrefurl=http://www.scit.wlv.ac.uk/~jphb/naw.index.html&amp;h=1044&amp;w=733&amp;sz=567&amp;tbnid=HzP_LM5NOloJ:&amp;tbnh=150&amp;tbnw=105&amp;start=10&amp;prev=/images%3Fq%3Dlake%26hl%3Den%26lr%3D%26sa%3D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toscanaservice.it/sciareintoscana/images/neve.jpg&amp;imgrefurl=http://www.toscanaservice.it/sciareintoscana/abetone.htm&amp;h=250&amp;w=362&amp;sz=28&amp;tbnid=D4birkOyzZQJ:&amp;tbnh=80&amp;tbnw=115&amp;start=17&amp;prev=/images%3Fq%3Dsciare%26hl%3Den%26lr%3D%26sa%3D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.uk/imgres?imgurl=http://www.mundogym.com.ar/Secciones/Deportes/fotos/graf_extremos/alpinismo/alpinismo00110.jpg&amp;imgrefurl=http://www.mundogym.com.ar/Secciones/Deportes/fotos/graf_extremos/extremos.htm&amp;h=416&amp;w=537&amp;sz=28&amp;tbnid=ts8uT9YI3jAJ:&amp;tbnh=99&amp;tbnw=128&amp;start=6&amp;prev=/images%3Fq%3Dalpinismo%26hl%3Den%26lr%3D%26sa%3D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.uk/imgres?imgurl=http://www.val-gardena.com/maurobernardi/images/marine.jpg&amp;imgrefurl=http://www.val-gardena.com/maurobernardi/italiano/arrampicata.htm&amp;h=225&amp;w=150&amp;sz=22&amp;tbnid=hRL67PgUWlYJ:&amp;tbnh=102&amp;tbnw=68&amp;start=29&amp;prev=/images%3Fq%3Dalpinismo%26start%3D20%26hl%3Den%26lr%3D%26sa%3DN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sterbasket.com/Vacanze/le%2520passeggiate.JPG&amp;imgrefurl=http://www.masterbasket.com/vacanze.htm&amp;h=480&amp;w=640&amp;sz=50&amp;tbnid=8__q0muUPqEJ:&amp;tbnh=101&amp;tbnw=135&amp;start=9&amp;prev=/images%3Fq%3Dpasseggiate%2B%26hl%3Den%26lr%3D%26sa%3D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hyperlink" Target="http://images.google.co.uk/imgres?imgurl=http://www.agriturismo.pg.it/agriturismi/lago-trasimeno/beautyfarm-letorri/passeggiate-cavallo.jpg&amp;imgrefurl=http://www.agriturismo.pg.it/agriturismi/lago-trasimeno/beautyfarm-letorri/&amp;h=300&amp;w=400&amp;sz=18&amp;tbnid=V-ofU5sOfgoJ:&amp;tbnh=90&amp;tbnw=120&amp;start=7&amp;prev=/images%3Fq%3Dpasseggiate%2B%26hl%3Den%26lr%3D%26sa%3D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images.google.co.uk/imgres?imgurl=http://www.adenet.es/aventura/Fotos-esc/canoa.jpg&amp;imgrefurl=http://www.adenet.es/aventura/canoa.htm&amp;h=488&amp;w=322&amp;sz=11&amp;tbnid=2Oh3sO4e-OUJ:&amp;tbnh=125&amp;tbnw=83&amp;start=6&amp;prev=/images%3Fq%3Dcanoa%26hl%3Den%26lr%3D%26sa%3D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images.google.co.uk/imgres?imgurl=http://www.itcgdomodossola.it/webStudenti/Finlandia-Jenni/images/soutu.jpg&amp;imgrefurl=http://www.itcgdomodossola.it/webStudenti/Finlandia-Jenni/cottage.htm&amp;h=268&amp;w=381&amp;sz=42&amp;tbnid=P-swiPXaiA8J:&amp;tbnh=83&amp;tbnw=117&amp;start=13&amp;prev=/images%3Fq%3Dbarca%2Ba%2Bremi%26hl%3Den%26lr%3D%26sa%3DG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co.uk/imgres?imgurl=http://www.scit.wlv.ac.uk/~jphb/canada/pictures/lake.peyto.1.gif&amp;imgrefurl=http://www.scit.wlv.ac.uk/~jphb/naw.index.html&amp;h=1044&amp;w=733&amp;sz=567&amp;tbnid=HzP_LM5NOloJ:&amp;tbnh=150&amp;tbnw=105&amp;start=10&amp;prev=/images%3Fq%3Dlake%26hl%3Den%26lr%3D%26sa%3D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toscanaservice.it/sciareintoscana/images/neve.jpg&amp;imgrefurl=http://www.toscanaservice.it/sciareintoscana/abetone.htm&amp;h=250&amp;w=362&amp;sz=28&amp;tbnid=D4birkOyzZQJ:&amp;tbnh=80&amp;tbnw=115&amp;start=17&amp;prev=/images%3Fq%3Dsciare%26hl%3Den%26lr%3D%26sa%3D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.uk/imgres?imgurl=http://www.mundogym.com.ar/Secciones/Deportes/fotos/graf_extremos/alpinismo/alpinismo00110.jpg&amp;imgrefurl=http://www.mundogym.com.ar/Secciones/Deportes/fotos/graf_extremos/extremos.htm&amp;h=416&amp;w=537&amp;sz=28&amp;tbnid=ts8uT9YI3jAJ:&amp;tbnh=99&amp;tbnw=128&amp;start=6&amp;prev=/images%3Fq%3Dalpinismo%26hl%3Den%26lr%3D%26sa%3D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.uk/imgres?imgurl=http://www.val-gardena.com/maurobernardi/images/marine.jpg&amp;imgrefurl=http://www.val-gardena.com/maurobernardi/italiano/arrampicata.htm&amp;h=225&amp;w=150&amp;sz=22&amp;tbnid=hRL67PgUWlYJ:&amp;tbnh=102&amp;tbnw=68&amp;start=29&amp;prev=/images%3Fq%3Dalpinismo%26start%3D20%26hl%3Den%26lr%3D%26sa%3DN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sterbasket.com/Vacanze/le%2520passeggiate.JPG&amp;imgrefurl=http://www.masterbasket.com/vacanze.htm&amp;h=480&amp;w=640&amp;sz=50&amp;tbnid=8__q0muUPqEJ:&amp;tbnh=101&amp;tbnw=135&amp;start=9&amp;prev=/images%3Fq%3Dpasseggiate%2B%26hl%3Den%26lr%3D%26sa%3D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hyperlink" Target="http://images.google.co.uk/imgres?imgurl=http://www.agriturismo.pg.it/agriturismi/lago-trasimeno/beautyfarm-letorri/passeggiate-cavallo.jpg&amp;imgrefurl=http://www.agriturismo.pg.it/agriturismi/lago-trasimeno/beautyfarm-letorri/&amp;h=300&amp;w=400&amp;sz=18&amp;tbnid=V-ofU5sOfgoJ:&amp;tbnh=90&amp;tbnw=120&amp;start=7&amp;prev=/images%3Fq%3Dpasseggiate%2B%26hl%3Den%26lr%3D%26sa%3D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images.google.co.uk/imgres?imgurl=http://www.adenet.es/aventura/Fotos-esc/canoa.jpg&amp;imgrefurl=http://www.adenet.es/aventura/canoa.htm&amp;h=488&amp;w=322&amp;sz=11&amp;tbnid=2Oh3sO4e-OUJ:&amp;tbnh=125&amp;tbnw=83&amp;start=6&amp;prev=/images%3Fq%3Dcanoa%26hl%3Den%26lr%3D%26sa%3D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images.google.co.uk/imgres?imgurl=http://www.itcgdomodossola.it/webStudenti/Finlandia-Jenni/images/soutu.jpg&amp;imgrefurl=http://www.itcgdomodossola.it/webStudenti/Finlandia-Jenni/cottage.htm&amp;h=268&amp;w=381&amp;sz=42&amp;tbnid=P-swiPXaiA8J:&amp;tbnh=83&amp;tbnw=117&amp;start=13&amp;prev=/images%3Fq%3Dbarca%2Ba%2Bremi%26hl%3Den%26lr%3D%26sa%3DG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images.google.co.uk/imgres?imgurl=http://www.mallorcaweb.net/bitruband/bitrumans/portas%2520amaca.JPG&amp;imgrefurl=http://www.mallorcaweb.net/bitruband/Fotos.php&amp;h=856&amp;w=1136&amp;sz=93&amp;tbnid=tU0uAKVmcZkJ:&amp;tbnh=113&amp;tbnw=149&amp;start=2&amp;prev=/images%3Fq%3Damaca%26hl%3Den%26lr%3D%26sa%3DG" TargetMode="Externa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co.uk/imgres?imgurl=http://www.scit.wlv.ac.uk/~jphb/canada/pictures/lake.peyto.1.gif&amp;imgrefurl=http://www.scit.wlv.ac.uk/~jphb/naw.index.html&amp;h=1044&amp;w=733&amp;sz=567&amp;tbnid=HzP_LM5NOloJ:&amp;tbnh=150&amp;tbnw=105&amp;start=10&amp;prev=/images%3Fq%3Dlake%26hl%3Den%26lr%3D%26sa%3D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ardegna"/>
          <p:cNvPicPr/>
          <p:nvPr/>
        </p:nvPicPr>
        <p:blipFill>
          <a:blip r:embed="rId1"/>
          <a:stretch/>
        </p:blipFill>
        <p:spPr>
          <a:xfrm rot="20844600">
            <a:off x="536400" y="396720"/>
            <a:ext cx="4043520" cy="266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apricale_carruggi1b"/>
          <p:cNvPicPr/>
          <p:nvPr/>
        </p:nvPicPr>
        <p:blipFill>
          <a:blip r:embed="rId2"/>
          <a:stretch/>
        </p:blipFill>
        <p:spPr>
          <a:xfrm rot="801600">
            <a:off x="5905440" y="531360"/>
            <a:ext cx="2679840" cy="2903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im000074"/>
          <p:cNvPicPr/>
          <p:nvPr/>
        </p:nvPicPr>
        <p:blipFill>
          <a:blip r:embed="rId3"/>
          <a:stretch/>
        </p:blipFill>
        <p:spPr>
          <a:xfrm rot="377400">
            <a:off x="1349280" y="3357360"/>
            <a:ext cx="2808360" cy="244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giza"/>
          <p:cNvPicPr/>
          <p:nvPr/>
        </p:nvPicPr>
        <p:blipFill>
          <a:blip r:embed="rId4"/>
          <a:stretch/>
        </p:blipFill>
        <p:spPr>
          <a:xfrm rot="21130200">
            <a:off x="4355640" y="3645000"/>
            <a:ext cx="3673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4475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isitar los monumen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acar fo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r al mus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ailar en la discote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r de comp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d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omar el s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r a hacer ve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cer excu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squ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acticar el alpin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cer escal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ar un paseo por el cam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cer un picn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ontar cabal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cer windsur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cer pira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ü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Ir en bar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Relaj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05520" y="33300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To ask/tell what you’re going to do in the future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 the verb IR (to go) + a + infini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Voy a ir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 Madrid (I’ll be going  to Madri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R (to go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am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 ti te toca…Pregunta a tu compañero o compañera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Dónde vas a ir de vacaciones el próximo año? Verano? Semana? Mes ? Fin de semana? Invierno? Dia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Por cuánto tiemp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Qué vas a hacer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cm1"/>
          <p:cNvPicPr/>
          <p:nvPr/>
        </p:nvPicPr>
        <p:blipFill>
          <a:blip r:embed="rId1"/>
          <a:stretch/>
        </p:blipFill>
        <p:spPr>
          <a:xfrm>
            <a:off x="0" y="1413000"/>
            <a:ext cx="30463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marchio"/>
          <p:cNvPicPr/>
          <p:nvPr/>
        </p:nvPicPr>
        <p:blipFill>
          <a:blip r:embed="rId2"/>
          <a:stretch/>
        </p:blipFill>
        <p:spPr>
          <a:xfrm rot="529800">
            <a:off x="2626920" y="1484280"/>
            <a:ext cx="1873440" cy="2149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ampagna"/>
          <p:cNvPicPr/>
          <p:nvPr/>
        </p:nvPicPr>
        <p:blipFill>
          <a:blip r:embed="rId3"/>
          <a:stretch/>
        </p:blipFill>
        <p:spPr>
          <a:xfrm rot="21198600">
            <a:off x="250920" y="3141360"/>
            <a:ext cx="2025720" cy="2171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firenze"/>
          <p:cNvPicPr/>
          <p:nvPr/>
        </p:nvPicPr>
        <p:blipFill>
          <a:blip r:embed="rId4"/>
          <a:stretch/>
        </p:blipFill>
        <p:spPr>
          <a:xfrm>
            <a:off x="1908000" y="357336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lak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5157720"/>
            <a:ext cx="2590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sardegna"/>
          <p:cNvPicPr/>
          <p:nvPr/>
        </p:nvPicPr>
        <p:blipFill>
          <a:blip r:embed="rId1"/>
          <a:stretch/>
        </p:blipFill>
        <p:spPr>
          <a:xfrm rot="20844600">
            <a:off x="539640" y="404640"/>
            <a:ext cx="4043520" cy="2660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apricale_carruggi1b"/>
          <p:cNvPicPr/>
          <p:nvPr/>
        </p:nvPicPr>
        <p:blipFill>
          <a:blip r:embed="rId2"/>
          <a:stretch/>
        </p:blipFill>
        <p:spPr>
          <a:xfrm rot="801600">
            <a:off x="5905440" y="531360"/>
            <a:ext cx="2679840" cy="2903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im000074"/>
          <p:cNvPicPr/>
          <p:nvPr/>
        </p:nvPicPr>
        <p:blipFill>
          <a:blip r:embed="rId3"/>
          <a:stretch/>
        </p:blipFill>
        <p:spPr>
          <a:xfrm rot="377400">
            <a:off x="1349280" y="3357360"/>
            <a:ext cx="2808360" cy="244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iza"/>
          <p:cNvPicPr/>
          <p:nvPr/>
        </p:nvPicPr>
        <p:blipFill>
          <a:blip r:embed="rId4"/>
          <a:stretch/>
        </p:blipFill>
        <p:spPr>
          <a:xfrm rot="21130200">
            <a:off x="4355640" y="3645000"/>
            <a:ext cx="367344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996920"/>
            <a:ext cx="864072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ahoma"/>
              </a:rPr>
              <a:t>¿Qué hiciste el año pasado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¿El año pasado qué hiciste en una ciuda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3" descr="paris"/>
          <p:cNvPicPr/>
          <p:nvPr/>
        </p:nvPicPr>
        <p:blipFill>
          <a:blip r:embed="rId1"/>
          <a:stretch/>
        </p:blipFill>
        <p:spPr>
          <a:xfrm>
            <a:off x="2124000" y="1341360"/>
            <a:ext cx="2282760" cy="19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isité los monu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qué fo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ui al mus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ailé en la discote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ui de compr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turisti"/>
          <p:cNvPicPr/>
          <p:nvPr/>
        </p:nvPicPr>
        <p:blipFill>
          <a:blip r:embed="rId2"/>
          <a:stretch/>
        </p:blipFill>
        <p:spPr>
          <a:xfrm rot="21263400">
            <a:off x="-1440" y="2208240"/>
            <a:ext cx="241128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useo-egizio"/>
          <p:cNvPicPr/>
          <p:nvPr/>
        </p:nvPicPr>
        <p:blipFill>
          <a:blip r:embed="rId3"/>
          <a:stretch/>
        </p:blipFill>
        <p:spPr>
          <a:xfrm rot="1100400">
            <a:off x="1763640" y="3068640"/>
            <a:ext cx="2521080" cy="183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scoteca-il-muretto-jesolo"/>
          <p:cNvPicPr/>
          <p:nvPr/>
        </p:nvPicPr>
        <p:blipFill>
          <a:blip r:embed="rId4"/>
          <a:stretch/>
        </p:blipFill>
        <p:spPr>
          <a:xfrm rot="20727600">
            <a:off x="179280" y="4723920"/>
            <a:ext cx="2087640" cy="1563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web%20Shopping%202"/>
          <p:cNvPicPr/>
          <p:nvPr/>
        </p:nvPicPr>
        <p:blipFill>
          <a:blip r:embed="rId5"/>
          <a:stretch/>
        </p:blipFill>
        <p:spPr>
          <a:xfrm>
            <a:off x="2627280" y="4724280"/>
            <a:ext cx="18604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iciste en la montaña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3" descr="marchio"/>
          <p:cNvPicPr/>
          <p:nvPr/>
        </p:nvPicPr>
        <p:blipFill>
          <a:blip r:embed="rId1"/>
          <a:stretch/>
        </p:blipFill>
        <p:spPr>
          <a:xfrm rot="21373800">
            <a:off x="324000" y="1699920"/>
            <a:ext cx="2016000" cy="176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zo excur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qui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atiqué el alpin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zo escal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neve">
            <a:hlinkClick r:id="rId2"/>
          </p:cNvPr>
          <p:cNvPicPr/>
          <p:nvPr/>
        </p:nvPicPr>
        <p:blipFill>
          <a:blip r:embed="rId3"/>
          <a:stretch/>
        </p:blipFill>
        <p:spPr>
          <a:xfrm rot="601800">
            <a:off x="2771280" y="148392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lpinismo001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3213000"/>
            <a:ext cx="1943280" cy="201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marine">
            <a:hlinkClick r:id="rId6"/>
          </p:cNvPr>
          <p:cNvPicPr/>
          <p:nvPr/>
        </p:nvPicPr>
        <p:blipFill>
          <a:blip r:embed="rId7"/>
          <a:stretch/>
        </p:blipFill>
        <p:spPr>
          <a:xfrm rot="20884200">
            <a:off x="395280" y="4220640"/>
            <a:ext cx="19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iciste en el camp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 un paseo por el cam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zo un pic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té a caba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le%2520passeggi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268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picnic"/>
          <p:cNvPicPr/>
          <p:nvPr/>
        </p:nvPicPr>
        <p:blipFill>
          <a:blip r:embed="rId3"/>
          <a:stretch/>
        </p:blipFill>
        <p:spPr>
          <a:xfrm rot="21294000">
            <a:off x="252360" y="2752200"/>
            <a:ext cx="2662200" cy="2613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passeggiate-cavall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4292640"/>
            <a:ext cx="208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iciste en el lag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3" descr="windsurf"/>
          <p:cNvPicPr/>
          <p:nvPr/>
        </p:nvPicPr>
        <p:blipFill>
          <a:blip r:embed="rId1"/>
          <a:stretch/>
        </p:blipFill>
        <p:spPr>
          <a:xfrm rot="20886600">
            <a:off x="379080" y="1483920"/>
            <a:ext cx="2000160" cy="16398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zo windsur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zo pira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ü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ui en bar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 relaj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cano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989000"/>
            <a:ext cx="2016360" cy="1766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soutu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357720"/>
            <a:ext cx="2449440" cy="1584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portas%2520amaca"/>
          <p:cNvPicPr/>
          <p:nvPr/>
        </p:nvPicPr>
        <p:blipFill>
          <a:blip r:embed="rId6"/>
          <a:stretch/>
        </p:blipFill>
        <p:spPr>
          <a:xfrm>
            <a:off x="2268360" y="4365720"/>
            <a:ext cx="2374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 ti te toca…Pregunta a tu compañero o compañera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Dónde fuiste el año pasa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Por cuánto tiemp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Qué hicist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cm1"/>
          <p:cNvPicPr/>
          <p:nvPr/>
        </p:nvPicPr>
        <p:blipFill>
          <a:blip r:embed="rId1"/>
          <a:stretch/>
        </p:blipFill>
        <p:spPr>
          <a:xfrm>
            <a:off x="0" y="1413000"/>
            <a:ext cx="3046320" cy="19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archio"/>
          <p:cNvPicPr/>
          <p:nvPr/>
        </p:nvPicPr>
        <p:blipFill>
          <a:blip r:embed="rId2"/>
          <a:stretch/>
        </p:blipFill>
        <p:spPr>
          <a:xfrm rot="529800">
            <a:off x="2626920" y="1484280"/>
            <a:ext cx="1873440" cy="2149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ampagna"/>
          <p:cNvPicPr/>
          <p:nvPr/>
        </p:nvPicPr>
        <p:blipFill>
          <a:blip r:embed="rId3"/>
          <a:stretch/>
        </p:blipFill>
        <p:spPr>
          <a:xfrm rot="21198600">
            <a:off x="250920" y="3141360"/>
            <a:ext cx="2025720" cy="2171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firenze"/>
          <p:cNvPicPr/>
          <p:nvPr/>
        </p:nvPicPr>
        <p:blipFill>
          <a:blip r:embed="rId4"/>
          <a:stretch/>
        </p:blipFill>
        <p:spPr>
          <a:xfrm>
            <a:off x="1908000" y="357336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lake"/>
          <p:cNvPicPr/>
          <p:nvPr/>
        </p:nvPicPr>
        <p:blipFill>
          <a:blip r:embed="rId5"/>
          <a:stretch/>
        </p:blipFill>
        <p:spPr>
          <a:xfrm>
            <a:off x="1258920" y="5157720"/>
            <a:ext cx="2590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AS VACACIO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5640" y="3933360"/>
            <a:ext cx="752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 el presente y en el pas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Tahoma"/>
              </a:rPr>
              <a:t>¿Dónde vas de vacaciones normalmente ?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0" descr="cm1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871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 la co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 la montañ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l camp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 una ciu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l l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2" descr="marchio"/>
          <p:cNvPicPr/>
          <p:nvPr/>
        </p:nvPicPr>
        <p:blipFill>
          <a:blip r:embed="rId2"/>
          <a:stretch/>
        </p:blipFill>
        <p:spPr>
          <a:xfrm rot="529800">
            <a:off x="2050560" y="1773360"/>
            <a:ext cx="1873440" cy="2149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campagna"/>
          <p:cNvPicPr/>
          <p:nvPr/>
        </p:nvPicPr>
        <p:blipFill>
          <a:blip r:embed="rId3"/>
          <a:stretch/>
        </p:blipFill>
        <p:spPr>
          <a:xfrm rot="21198600">
            <a:off x="0" y="2923920"/>
            <a:ext cx="2025720" cy="2171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firenze"/>
          <p:cNvPicPr/>
          <p:nvPr/>
        </p:nvPicPr>
        <p:blipFill>
          <a:blip r:embed="rId4"/>
          <a:stretch/>
        </p:blipFill>
        <p:spPr>
          <a:xfrm>
            <a:off x="1763640" y="371628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" descr="lak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5157720"/>
            <a:ext cx="2590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aces en una ciuda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3" descr="paris"/>
          <p:cNvPicPr/>
          <p:nvPr/>
        </p:nvPicPr>
        <p:blipFill>
          <a:blip r:embed="rId1"/>
          <a:stretch/>
        </p:blipFill>
        <p:spPr>
          <a:xfrm>
            <a:off x="2124000" y="1341360"/>
            <a:ext cx="2282760" cy="1981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isito los monu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co fo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l mus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ailo en la discote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de compr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turisti"/>
          <p:cNvPicPr/>
          <p:nvPr/>
        </p:nvPicPr>
        <p:blipFill>
          <a:blip r:embed="rId2"/>
          <a:stretch/>
        </p:blipFill>
        <p:spPr>
          <a:xfrm rot="21263400">
            <a:off x="-1440" y="2208240"/>
            <a:ext cx="241128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useo-egizio"/>
          <p:cNvPicPr/>
          <p:nvPr/>
        </p:nvPicPr>
        <p:blipFill>
          <a:blip r:embed="rId3"/>
          <a:stretch/>
        </p:blipFill>
        <p:spPr>
          <a:xfrm rot="1100400">
            <a:off x="1763640" y="3068640"/>
            <a:ext cx="2521080" cy="183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iscoteca-il-muretto-jesolo"/>
          <p:cNvPicPr/>
          <p:nvPr/>
        </p:nvPicPr>
        <p:blipFill>
          <a:blip r:embed="rId4"/>
          <a:stretch/>
        </p:blipFill>
        <p:spPr>
          <a:xfrm rot="20727600">
            <a:off x="179280" y="4723920"/>
            <a:ext cx="2087640" cy="156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web%20Shopping%202"/>
          <p:cNvPicPr/>
          <p:nvPr/>
        </p:nvPicPr>
        <p:blipFill>
          <a:blip r:embed="rId5"/>
          <a:stretch/>
        </p:blipFill>
        <p:spPr>
          <a:xfrm>
            <a:off x="2627280" y="4724280"/>
            <a:ext cx="18604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aces en la cost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mo el s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v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0" descr="swimming"/>
          <p:cNvPicPr/>
          <p:nvPr/>
        </p:nvPicPr>
        <p:blipFill>
          <a:blip r:embed="rId1"/>
          <a:stretch/>
        </p:blipFill>
        <p:spPr>
          <a:xfrm>
            <a:off x="395280" y="1413000"/>
            <a:ext cx="3168720" cy="194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78602905uyMhjB_ph"/>
          <p:cNvPicPr/>
          <p:nvPr/>
        </p:nvPicPr>
        <p:blipFill>
          <a:blip r:embed="rId2"/>
          <a:stretch/>
        </p:blipFill>
        <p:spPr>
          <a:xfrm rot="20937600">
            <a:off x="250560" y="278136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vela"/>
          <p:cNvPicPr/>
          <p:nvPr/>
        </p:nvPicPr>
        <p:blipFill>
          <a:blip r:embed="rId3"/>
          <a:stretch/>
        </p:blipFill>
        <p:spPr>
          <a:xfrm>
            <a:off x="2050920" y="4797360"/>
            <a:ext cx="2190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aces en la montañ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marchio"/>
          <p:cNvPicPr/>
          <p:nvPr/>
        </p:nvPicPr>
        <p:blipFill>
          <a:blip r:embed="rId1"/>
          <a:stretch/>
        </p:blipFill>
        <p:spPr>
          <a:xfrm rot="21373800">
            <a:off x="468360" y="1412640"/>
            <a:ext cx="2016000" cy="1765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excur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quí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actico el alpin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escal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neve">
            <a:hlinkClick r:id="rId2"/>
          </p:cNvPr>
          <p:cNvPicPr/>
          <p:nvPr/>
        </p:nvPicPr>
        <p:blipFill>
          <a:blip r:embed="rId3"/>
          <a:stretch/>
        </p:blipFill>
        <p:spPr>
          <a:xfrm rot="601800">
            <a:off x="2771280" y="148392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alpinismo001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3213000"/>
            <a:ext cx="1943280" cy="201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marine">
            <a:hlinkClick r:id="rId6"/>
          </p:cNvPr>
          <p:cNvPicPr/>
          <p:nvPr/>
        </p:nvPicPr>
        <p:blipFill>
          <a:blip r:embed="rId7"/>
          <a:stretch/>
        </p:blipFill>
        <p:spPr>
          <a:xfrm rot="20884200">
            <a:off x="395280" y="4220640"/>
            <a:ext cx="19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aces en el camp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y un paseo por el cam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un pic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to a caba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le%2520passeggi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268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icnic"/>
          <p:cNvPicPr/>
          <p:nvPr/>
        </p:nvPicPr>
        <p:blipFill>
          <a:blip r:embed="rId3"/>
          <a:stretch/>
        </p:blipFill>
        <p:spPr>
          <a:xfrm rot="21294000">
            <a:off x="252360" y="2752200"/>
            <a:ext cx="2662200" cy="2613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asseggiate-cavall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4292640"/>
            <a:ext cx="208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aces en el lag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windsurf"/>
          <p:cNvPicPr/>
          <p:nvPr/>
        </p:nvPicPr>
        <p:blipFill>
          <a:blip r:embed="rId1"/>
          <a:stretch/>
        </p:blipFill>
        <p:spPr>
          <a:xfrm rot="20886600">
            <a:off x="379080" y="1483920"/>
            <a:ext cx="2000160" cy="1639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windsur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pira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ü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y en bar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 rel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1" descr="cano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989000"/>
            <a:ext cx="2016360" cy="17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soutu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357720"/>
            <a:ext cx="2449440" cy="158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portas%2520amac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365720"/>
            <a:ext cx="2374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 ti te toca…Pregunta a tu compañero o compañera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Dónde vas de vacaciones normalmen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Por cuánto tiemp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Qué hac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cm1"/>
          <p:cNvPicPr/>
          <p:nvPr/>
        </p:nvPicPr>
        <p:blipFill>
          <a:blip r:embed="rId1"/>
          <a:stretch/>
        </p:blipFill>
        <p:spPr>
          <a:xfrm>
            <a:off x="0" y="1413000"/>
            <a:ext cx="304632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archio"/>
          <p:cNvPicPr/>
          <p:nvPr/>
        </p:nvPicPr>
        <p:blipFill>
          <a:blip r:embed="rId2"/>
          <a:stretch/>
        </p:blipFill>
        <p:spPr>
          <a:xfrm rot="529800">
            <a:off x="2626920" y="1484280"/>
            <a:ext cx="1873440" cy="2149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ampagna"/>
          <p:cNvPicPr/>
          <p:nvPr/>
        </p:nvPicPr>
        <p:blipFill>
          <a:blip r:embed="rId3"/>
          <a:stretch/>
        </p:blipFill>
        <p:spPr>
          <a:xfrm rot="21198600">
            <a:off x="250920" y="3141360"/>
            <a:ext cx="2025720" cy="2171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firenze"/>
          <p:cNvPicPr/>
          <p:nvPr/>
        </p:nvPicPr>
        <p:blipFill>
          <a:blip r:embed="rId4"/>
          <a:stretch/>
        </p:blipFill>
        <p:spPr>
          <a:xfrm>
            <a:off x="1908000" y="357336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lak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5157720"/>
            <a:ext cx="2590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8:10:06Z</dcterms:created>
  <dc:creator>ICT Services</dc:creator>
  <dc:description/>
  <dc:language>en-US</dc:language>
  <cp:lastModifiedBy>Carolyn</cp:lastModifiedBy>
  <dcterms:modified xsi:type="dcterms:W3CDTF">2011-03-01T21:21:15Z</dcterms:modified>
  <cp:revision>18</cp:revision>
  <dc:subject/>
  <dc:title>Slide 1</dc:title>
</cp:coreProperties>
</file>